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B56E-EEF0-48C2-8DC8-F3390725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62B-A1E5-4244-854C-CD59F1D1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8BF9-8C70-4F8A-B4B8-4A612E2B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599-82BF-4D81-A2D0-3C96D346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235E-4D4C-40BC-8EAD-3475D2BC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88E3-FDC1-4A54-BF8C-795AEA98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C442-C40D-4CFF-B4E0-0BCA985A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40E7-6E20-4733-A126-455A7C56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1F45-1BA1-466A-ACB4-F39D03CB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3AF2-3AD9-4722-BFF1-ADE1B0A1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9E0B-6B1A-44C2-9920-31093F0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73D-4939-4BF2-83CC-95C17203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4CD8-8E03-4838-9448-57C83C0F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E2D6-0F48-4D3B-B1FB-ABCC3431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5A3C-191B-46B8-9032-C2428A5B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F16C-A231-4C3B-B8AC-B16DB55A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816E-E7A4-496E-BC47-50B43996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213-60ED-4AE2-931B-ADAD46BE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429-088C-4B06-9735-05773F38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C6B-8446-47AC-933A-BD7CBF16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FF6-7162-4B6E-9B41-C497FE7F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6BF-9863-4A30-98D7-74DD2ABC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A33A-71F0-47BE-BC9C-F76C3DBF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4D7-27C4-4872-B6A0-97A6C0D4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78FA-AEB3-4E0D-B7D4-CD9B820ECAA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0BA1-F88B-4ACC-BF2F-D2AE6D5A8F5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President’s Major Ro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rty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oints party members to government job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upports party members who are up for election or re-elec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ead of St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President serves as the symbol and primary representative of the United States governmen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President is the ceremonial head of the United States of Americ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President is responsible for carrying out the duties of the executive branch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o accomplish this enormous task, the President has to assume many rol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ief Executiv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arries out the nation’s law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ssues executive orders (a rule or command that has the force of law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oints cabinet members and other official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Heads the federal bureaucrac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Bureaucrac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the network of agencies and individuals that work to carry out the numerous duties of the executive branc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pproximately 3 million people make-up the federal bureaucracy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ief Diplo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Deals directly with foreign nation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oints ambassador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akes treati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ssues executive agreements (an agreement between the President and a leader of another country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nder in Chief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President is the leader of the armed forc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*Remember that only Congress can officially declare war, however, only the President can order troops into battl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islative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Proposes legisl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fluences legisl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roves or vetoes legislation that has been passed by Congres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conomic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Works to help the nation’s economy prospe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Deals with the economic problems of rising prices, unemployment, and high taxe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Proposes the federal budget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Leade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ppoints judges to the Supreme Court and other federal court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May grant pardons, reprieves, and amnest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6:20:42Z</dcterms:created>
  <dc:creator>Sys Admin</dc:creator>
  <dc:description/>
  <dc:language>en-US</dc:language>
  <cp:lastModifiedBy>Sys Admin</cp:lastModifiedBy>
  <dcterms:modified xsi:type="dcterms:W3CDTF">2009-11-09T20:16:28Z</dcterms:modified>
  <cp:revision>12</cp:revision>
  <dc:subject/>
  <dc:title>The President’s Major Roles</dc:title>
</cp:coreProperties>
</file>